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351-85B9-43A3-A3E8-72C51430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11B-F4B9-419C-8047-E31162A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99F-BC7D-4BE7-9598-E401EE25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323-7B3E-405F-9D90-1C31FC27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B4D6-A867-441F-AABC-8CBBABBD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AFD-DCA0-435B-B934-A4D8755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E387-E95D-4138-8782-0153706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0401-50C2-4880-A39D-9DE20AB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529D-5078-4EB6-BA61-BF1522D5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59EE-0EE5-450C-9B0A-5E7826B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A61D-6024-4D26-9221-4E3E327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BE4-5EAA-4BB7-B355-FAA16A7D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5E27-4E0D-49DE-BA56-CCFFC32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06F5-877B-4D21-A2F9-CB0925A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F980-AD1D-4F0B-825E-A7C7E182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4761-1409-4F8A-891B-8F51C7FF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220E-9B4B-4A3E-8619-955BF648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F3C-E8CB-4BB1-96EE-72B4DFC5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4C0-7E4D-4538-8D8F-A20F7C1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65D-A525-4B1D-A2BE-70927F9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8B5-BCD0-40A9-B18D-BDA60B20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12B-81C4-4095-9925-79D92AE7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3AF-8470-4506-9A25-C14474EC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D89-233A-4D4C-87B7-ABF5F94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5C15-D9A8-41D7-86D6-00E0FE4C32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5869-86A2-445A-8C1E-A5D86813C8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ooper.html" TargetMode="External"/><Relationship Id="rId4" Type="http://schemas.openxmlformats.org/officeDocument/2006/relationships/hyperlink" Target="http://web.mit.edu/invent/iow/cooper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380880"/>
            <a:ext cx="70866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ELL-O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34340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d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952880" y="5943600"/>
            <a:ext cx="382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Unbroken 3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10/4/2010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ion: JELL-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latin was discovered much earlier and was made by melted animal b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per discovered a new way to make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then sold it to Pearl Wait, and Wait named it “JELL-O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it then sold it to Francis Woodw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made JELL-O famous by commercials and chef endorsement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Peter Coo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er was born on February 12, 1791 in New York C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was an engineer and philanthrop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invented the rotary steam engine, a musical cradle, different ways to create salt and glue, and a number of mining produc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1845, he obtained a patent for the manufacture of gelat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er died on April 4, 1883 in New Y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Cooper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3962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Cooper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50840" y="533520"/>
            <a:ext cx="42832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melson MIT program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er Coop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9/29/2010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eb.mit.edu/invent/iow/coope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33520"/>
            <a:ext cx="42832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melson MIT program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er Coop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9/29/2010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eb.mit.edu/invent/iow/coope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3T17:50:47Z</dcterms:modified>
  <cp:revision>12</cp:revision>
  <dc:subject/>
  <dc:title>Slide 1</dc:title>
</cp:coreProperties>
</file>